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FE2-3DE9-4510-BB55-437FDE4F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9F4-7FBA-4775-849E-5124FE0D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145-FBE4-481A-8B5A-E5442A29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498-D85D-45BB-A6C6-20DF36B2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A62-3BC2-46D6-9634-7660E877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5EF-2C9D-46BE-917B-63853D39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340-EBEE-45E1-8013-BE2B4A2B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0FD-E841-4DE4-AC68-F0A485B8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D97-3ABA-4C8F-B0EE-57FF43C4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D83-6397-40A8-997E-E6EF240A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3D6-149F-45B6-AF04-F0248DF0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78F-A6D4-4482-81B5-058E4B02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314F-129F-4DD3-B620-708B53B9B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508720" y="1557360"/>
            <a:ext cx="561960" cy="722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9b2</cp:lastModifiedBy>
  <dcterms:modified xsi:type="dcterms:W3CDTF">2012-06-19T10:51:58Z</dcterms:modified>
  <cp:revision>30</cp:revision>
  <dc:subject/>
  <dc:title>SALARIUL</dc:title>
</cp:coreProperties>
</file>